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16A4-4D9C-4D3F-B1CF-9B8495F3E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0330-60F9-48DA-B073-6790A4EAB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DB3D-2765-432A-8D3A-44C95A623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4706-D322-4D5C-904E-96AC153A9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2CE7-64CA-43A8-B5AF-30AE5BFF4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2CA-0D6B-4680-8793-5EF79A04F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6D93-BCF5-4BF5-84A6-F12309F76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154A-33FC-4FE7-A930-D23B2B5F1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C017-F230-4000-8CC1-F0F1DD364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0FEF-25CF-4F79-84AE-151F2AAE5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7C9B-1F1B-4AA6-9048-79984FF1C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3E41-E747-428A-B972-519AE122D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3A47-9B2E-4860-BFFA-6C8A6D558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A069-D02A-40FB-A914-A5E38D82A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CDE4-D36C-49AA-9970-F1EB2E955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B8A9-73CA-4E27-9971-39D32E45F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0967-8D09-42C2-BF47-B615FFE1A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7976-E0EB-4260-BDC4-7E5FB6393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3059-5A17-49BA-9650-81E7D3548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84D1-54B1-4B15-B76F-918CDCFEE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2B49-3E44-4DCC-999A-87B50A4DF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9EE9-5008-4DC3-8E6A-FFAB97C4F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1E78-D7AF-4647-BF88-78006F34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787B-2AE0-4F41-8DC5-494B3C96C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5676-01E5-4097-AF83-749B94AAE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3F66-FC36-4AA0-97EA-14E3F28EA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D0B4-0BF9-41B1-A6C6-1CE0368AA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FE68-94FA-4E5A-92D4-A7A7EDF06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75AF-4978-4889-A3C5-1859544EF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9C15-161D-4186-832C-8CE3F6DE9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ACEF-C66E-41FF-9B93-8CF1ED38D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488A-3FC7-4F10-86FD-5962192B4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7F8F-6BA5-48D9-AD6E-E0237D70D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51AF-2425-465E-9E3E-51D47DC33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55DE-808E-4F29-8ECD-527CBB837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0B9-0082-4BAB-BD07-EF68815B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59D-D9A0-4192-AF2B-A9C29267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6FF-9A1E-4A9E-B6AB-9468A87A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538-B507-4FB2-A944-FF249A2F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751-55D9-47D3-A525-6D4AD43E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F27-5694-410C-A1EC-F2ECBF89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B54-80E5-40B4-8C3E-06D8C0F8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459-74F3-4758-A9BE-09568648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417-8DE8-440B-8AE3-F3EA8084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815-7F27-48E0-ACCA-FBB7EEEA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A8F-73E8-4B10-A2C2-D189F608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5FA-B80C-49C2-B564-72540C50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3021-2051-4F1C-8FAE-3600C2D73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../Downloaded%20Videos/The%20Secret%20of%20Life%20--%20Discovery%20of%20DNA%20Structure.avi" TargetMode="External"/><Relationship Id="rId2" Type="http://schemas.openxmlformats.org/officeDocument/2006/relationships/hyperlink" Target="file:///../../../Downloaded%20Videos/The%20Secret%20of%20Life%20--%20Discovery%20of%20DNA%20Structure.avi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../../../Downloaded%20Videos/DNA%20Replication%20Process.avi" TargetMode="External"/><Relationship Id="rId2" Type="http://schemas.openxmlformats.org/officeDocument/2006/relationships/hyperlink" Target="file:///../../../Downloaded%20Videos/DNA%20Replication%20Process.avi" TargetMode="Externa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C32B-BFD9-4BA9-85F9-47066F8A9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6032-F79F-4887-B559-FF6FE901C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atson and Crick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006800" cy="4648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6019920" y="1905120"/>
            <a:ext cx="2361960" cy="1218960"/>
          </a:xfrm>
          <a:prstGeom prst="wedgeRoundRectCallout">
            <a:avLst>
              <a:gd name="adj1" fmla="val -67138"/>
              <a:gd name="adj2" fmla="val 287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re big fat thiev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Video: History of DNA Discovery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stions to Pond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was Linus Pauling and why was his DNA model incorr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id Rosalind Franklin “help” Watson and Crick to develop their model of DN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79132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..\..\..\Downloaded Videos\The Secret of Life -- Discovery of DN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tructure.a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5C0D-8E71-4D64-9847-06B7A3914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Bas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is a type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ucleic Ac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de of monomer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unction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store genetic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2004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05A9-F63D-4D97-95D2-DD88DC296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ade of a sugar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5740560" y="1752480"/>
            <a:ext cx="28890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960F-23A3-46E7-AA37-CDB026823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07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10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21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25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Footer Placeholder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4864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3894-B768-4270-B851-DB03BD95B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helix is formed by nucleotides linked to one anoth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CF54-76E5-4185-871A-60A1D0B3A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38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45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50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ooter Placeholder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7CA3-DC98-432A-9D4A-7DC9CB981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318A-E068-4FF4-8066-349597A7D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4876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part of a strand that ends with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called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 prime (5’) 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part of a strand that ends with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suga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called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 prime (3’) 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ooter Placeholder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9" descr=""/>
          <p:cNvPicPr/>
          <p:nvPr/>
        </p:nvPicPr>
        <p:blipFill>
          <a:blip r:embed="rId1"/>
          <a:stretch/>
        </p:blipFill>
        <p:spPr>
          <a:xfrm>
            <a:off x="6324480" y="1447920"/>
            <a:ext cx="1389240" cy="4038480"/>
          </a:xfrm>
          <a:prstGeom prst="rect">
            <a:avLst/>
          </a:prstGeom>
          <a:ln w="0">
            <a:noFill/>
          </a:ln>
        </p:spPr>
      </p:pic>
      <p:sp>
        <p:nvSpPr>
          <p:cNvPr id="167" name="Oval 20"/>
          <p:cNvSpPr/>
          <p:nvPr/>
        </p:nvSpPr>
        <p:spPr>
          <a:xfrm>
            <a:off x="5943600" y="1295280"/>
            <a:ext cx="144792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1"/>
          <p:cNvSpPr/>
          <p:nvPr/>
        </p:nvSpPr>
        <p:spPr>
          <a:xfrm>
            <a:off x="5943600" y="4419720"/>
            <a:ext cx="1371600" cy="1218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8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74320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Line 9"/>
          <p:cNvSpPr/>
          <p:nvPr/>
        </p:nvSpPr>
        <p:spPr>
          <a:xfrm flipV="1">
            <a:off x="5334120" y="58669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 flipH="1" flipV="1">
            <a:off x="7315200" y="586692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038480" y="5867280"/>
            <a:ext cx="121932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nd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 to 3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7772400" y="5867280"/>
            <a:ext cx="121932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nd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 to 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B3D9-9EF0-4928-AF12-0162C9826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180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183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B775-7690-4A9D-9912-1E6221481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ydrogen bonds connect the ba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2001240" y="3853080"/>
            <a:ext cx="5669280" cy="2562120"/>
            <a:chOff x="2001240" y="3853080"/>
            <a:chExt cx="5669280" cy="2562120"/>
          </a:xfrm>
        </p:grpSpPr>
        <p:sp>
          <p:nvSpPr>
            <p:cNvPr id="191" name="AutoShape 9"/>
            <p:cNvSpPr/>
            <p:nvPr/>
          </p:nvSpPr>
          <p:spPr>
            <a:xfrm>
              <a:off x="5892840" y="4916520"/>
              <a:ext cx="1777680" cy="1473120"/>
            </a:xfrm>
            <a:prstGeom prst="hexagon">
              <a:avLst>
                <a:gd name="adj" fmla="val 30163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utoShape 10"/>
            <p:cNvSpPr/>
            <p:nvPr/>
          </p:nvSpPr>
          <p:spPr>
            <a:xfrm>
              <a:off x="3454200" y="4916520"/>
              <a:ext cx="1778040" cy="1473120"/>
            </a:xfrm>
            <a:prstGeom prst="hexagon">
              <a:avLst>
                <a:gd name="adj" fmla="val 30169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6536160" y="536400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4015800" y="536400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3"/>
            <p:cNvSpPr/>
            <p:nvPr/>
          </p:nvSpPr>
          <p:spPr>
            <a:xfrm>
              <a:off x="4825800" y="48909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>
              <a:off x="5283000" y="5653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4825800" y="641520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5346720" y="411480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 flipH="1">
              <a:off x="5626080" y="4599000"/>
              <a:ext cx="1015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18"/>
            <p:cNvSpPr/>
            <p:nvPr/>
          </p:nvSpPr>
          <p:spPr>
            <a:xfrm rot="18044400">
              <a:off x="2272320" y="4142520"/>
              <a:ext cx="152712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Footer Placeholder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process of specific bases bonding together to form the rungs of the ladder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omplementary Base Pa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4" descr="16x5bc"/>
          <p:cNvPicPr/>
          <p:nvPr/>
        </p:nvPicPr>
        <p:blipFill>
          <a:blip r:embed="rId1"/>
          <a:stretch/>
        </p:blipFill>
        <p:spPr>
          <a:xfrm>
            <a:off x="4267080" y="1828800"/>
            <a:ext cx="4572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C34B-BF04-49CE-82CB-9447D1678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208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217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Footer Placeholder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E74E-1855-4AA4-AFDB-12B9BD841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F506-46DF-4B66-B308-E5EAE41F0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BD2B-BA88-47B5-A4A4-AD948B8D3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Ques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e out the sequence of a strand complementary to the following strand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TAGCATG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6603-07FB-4E3D-9246-835F28D0C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Answ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riginal Strand: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TAGCATGG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omplementary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ATCGTAC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Strand: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2439-560A-4013-8246-6D35CBD17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CF13-6521-4AE6-8B68-4AADD02FB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8D0B-2DAB-4C63-8CF7-DDB423D24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252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Footer Placeholder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600A-6B4D-425C-9E2B-1368B19E0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270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Footer Placeholder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F38D-BBDF-4E44-99DD-17ACC2701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314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Footer Placeholder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B877-D017-4F53-96F7-D15047B00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Steps of 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1) 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8" descr="http://www.nature.com/scitable/content/ne0000/ne0000/ne0000/ne0000/6508783/EssGen1-3_Primase_SQUARE_0.jpg"/>
          <p:cNvPicPr/>
          <p:nvPr/>
        </p:nvPicPr>
        <p:blipFill>
          <a:blip r:embed="rId1"/>
          <a:stretch/>
        </p:blipFill>
        <p:spPr>
          <a:xfrm>
            <a:off x="3429000" y="3886200"/>
            <a:ext cx="28195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336" name="Straight Arrow Connector 9"/>
          <p:cNvCxnSpPr/>
          <p:nvPr/>
        </p:nvCxnSpPr>
        <p:spPr>
          <a:xfrm>
            <a:off x="2819520" y="4724280"/>
            <a:ext cx="1219680" cy="61056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of 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28240" y="15235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ucleotid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brings them into the replication f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“primer”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created to start the new str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3F0B-A354-4A0E-B24B-BAF635DDC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6496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of 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240" y="2057040"/>
            <a:ext cx="4876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) 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ches free nucleotides with the correct base pairs on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emplate (parent) str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870F-0532-4E89-B1B6-276A0CD1F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4" descr="http://www.neb.com/nebecomm/productfiles/1936/images/F-540_fig1_v1_000027.jpg"/>
          <p:cNvPicPr/>
          <p:nvPr/>
        </p:nvPicPr>
        <p:blipFill>
          <a:blip r:embed="rId1"/>
          <a:stretch/>
        </p:blipFill>
        <p:spPr>
          <a:xfrm>
            <a:off x="5181480" y="205740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F4F3-2F0A-4A61-B49B-355BBA9DB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2" descr="25_03"/>
          <p:cNvPicPr/>
          <p:nvPr/>
        </p:nvPicPr>
        <p:blipFill>
          <a:blip r:embed="rId1"/>
          <a:srcRect l="23262" t="26197" r="23350" b="0"/>
          <a:stretch/>
        </p:blipFill>
        <p:spPr>
          <a:xfrm>
            <a:off x="1828800" y="380880"/>
            <a:ext cx="5952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D0A3-97B7-46D5-A864-76D42101A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pneumonia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F554-FE59-428A-A2B6-D1C882ED5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" descr="http://bbruner.org/bitn/bitn_fig/dna_repl.gif"/>
          <p:cNvPicPr/>
          <p:nvPr/>
        </p:nvPicPr>
        <p:blipFill>
          <a:blip r:embed="rId1"/>
          <a:stretch/>
        </p:blipFill>
        <p:spPr>
          <a:xfrm>
            <a:off x="2971800" y="152280"/>
            <a:ext cx="289548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of 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90720" y="1523880"/>
            <a:ext cx="63244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) The enzyme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ligas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nects any “breaks” in the new strands and the 2 new strand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wi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ck together.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he Big Question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y are there “breaks” in the new strands at all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FFB6-C777-408D-B10B-4425BD498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BCF1-52CA-4C34-855E-40724B62E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359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Line 44"/>
          <p:cNvSpPr/>
          <p:nvPr/>
        </p:nvSpPr>
        <p:spPr>
          <a:xfrm flipH="1">
            <a:off x="2895480" y="594360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1B93-6573-45DA-8CAC-C04E08DDB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ooter Placeholder 9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8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2743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65A9-F1B6-41E8-B098-069FA706F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aking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built into the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Footer Placeholder 5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53" descr="http://bio1100.nicerweb.com/Locked/media/ch12/12_08.jpg"/>
          <p:cNvPicPr/>
          <p:nvPr/>
        </p:nvPicPr>
        <p:blipFill>
          <a:blip r:embed="rId1"/>
          <a:stretch/>
        </p:blipFill>
        <p:spPr>
          <a:xfrm>
            <a:off x="1523880" y="2286000"/>
            <a:ext cx="6324840" cy="4400640"/>
          </a:xfrm>
          <a:prstGeom prst="rect">
            <a:avLst/>
          </a:prstGeom>
          <a:ln w="0">
            <a:noFill/>
          </a:ln>
        </p:spPr>
      </p:pic>
      <p:sp>
        <p:nvSpPr>
          <p:cNvPr id="410" name="Oval 51"/>
          <p:cNvSpPr/>
          <p:nvPr/>
        </p:nvSpPr>
        <p:spPr>
          <a:xfrm>
            <a:off x="457200" y="2133720"/>
            <a:ext cx="4724280" cy="236196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32F9-E4C4-43E4-AF41-B0456C3F9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218960" y="609120"/>
            <a:ext cx="739116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ilt in short sections in the opposite direction (out of the f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“breaks”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the str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Footer Placeholder 10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105" descr="http://bio1100.nicerweb.com/Locked/media/ch12/12_08.jpg"/>
          <p:cNvPicPr/>
          <p:nvPr/>
        </p:nvPicPr>
        <p:blipFill>
          <a:blip r:embed="rId1"/>
          <a:stretch/>
        </p:blipFill>
        <p:spPr>
          <a:xfrm>
            <a:off x="1295280" y="2438280"/>
            <a:ext cx="6324840" cy="4172040"/>
          </a:xfrm>
          <a:prstGeom prst="rect">
            <a:avLst/>
          </a:prstGeom>
          <a:ln w="0">
            <a:noFill/>
          </a:ln>
        </p:spPr>
      </p:pic>
      <p:sp>
        <p:nvSpPr>
          <p:cNvPr id="415" name="Oval 104"/>
          <p:cNvSpPr/>
          <p:nvPr/>
        </p:nvSpPr>
        <p:spPr>
          <a:xfrm>
            <a:off x="457200" y="4267080"/>
            <a:ext cx="4572000" cy="236232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AA92-D7C6-4494-9897-58558055A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Fragments of DNA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section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420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46"/>
            <p:cNvSpPr/>
            <p:nvPr/>
          </p:nvSpPr>
          <p:spPr>
            <a:xfrm>
              <a:off x="5943600" y="418284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53"/>
            <p:cNvSpPr/>
            <p:nvPr/>
          </p:nvSpPr>
          <p:spPr>
            <a:xfrm>
              <a:off x="1371600" y="418284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Footer Placeholder 6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62"/>
          <p:cNvCxnSpPr/>
          <p:nvPr/>
        </p:nvCxnSpPr>
        <p:spPr>
          <a:xfrm flipV="1">
            <a:off x="2666880" y="4647960"/>
            <a:ext cx="1843920" cy="20880"/>
          </a:xfrm>
          <a:prstGeom prst="straightConnector1">
            <a:avLst/>
          </a:prstGeom>
          <a:ln w="57240">
            <a:solidFill>
              <a:srgbClr val="92d050"/>
            </a:solidFill>
            <a:miter/>
          </a:ln>
        </p:spPr>
      </p:cxnSp>
      <p:cxnSp>
        <p:nvCxnSpPr>
          <p:cNvPr id="476" name="AutoShape 62"/>
          <p:cNvCxnSpPr>
            <a:endCxn id="463" idx="0"/>
          </p:cNvCxnSpPr>
          <p:nvPr/>
        </p:nvCxnSpPr>
        <p:spPr>
          <a:xfrm flipV="1">
            <a:off x="4876560" y="4662000"/>
            <a:ext cx="3647160" cy="7200"/>
          </a:xfrm>
          <a:prstGeom prst="straightConnector1">
            <a:avLst/>
          </a:prstGeom>
          <a:ln w="57240">
            <a:solidFill>
              <a:srgbClr val="92d050"/>
            </a:solidFill>
            <a:miter/>
          </a:ln>
        </p:spPr>
      </p:cxnSp>
      <p:sp>
        <p:nvSpPr>
          <p:cNvPr id="477" name="Rectangle 63"/>
          <p:cNvSpPr/>
          <p:nvPr/>
        </p:nvSpPr>
        <p:spPr>
          <a:xfrm>
            <a:off x="4876920" y="4419720"/>
            <a:ext cx="304560" cy="609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3"/>
          <p:cNvSpPr/>
          <p:nvPr/>
        </p:nvSpPr>
        <p:spPr>
          <a:xfrm>
            <a:off x="4267080" y="4419720"/>
            <a:ext cx="381240" cy="609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Quick Video to Help You Remembe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..\..\..\Downloaded Videos\DNA Replication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Process.a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8637-9063-4948-9692-580D84EBB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6412-05F9-424E-994C-8664D139F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(UV) rad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s of Repai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1) 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when a repair enzyme removes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2) DNA polymerase and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work together to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8" name="Picture 8" descr="http://www.ihmteachers.org/Site%20Graphics/5-Free-Summer-Clipart-Illustration-Of-A-Happy-Smiling-Sun.jpg"/>
          <p:cNvPicPr/>
          <p:nvPr/>
        </p:nvPicPr>
        <p:blipFill>
          <a:blip r:embed="rId1"/>
          <a:stretch/>
        </p:blipFill>
        <p:spPr>
          <a:xfrm>
            <a:off x="6477120" y="1981080"/>
            <a:ext cx="2489040" cy="21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110F-E94A-4A94-AEA2-CF31BCA22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F77F-BABC-4901-A9A1-56F2A422D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DNA in a protein “coa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447920" y="5943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DNA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2296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276200" y="571680"/>
            <a:ext cx="6591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B0B7-AC88-401F-91BF-633778C6B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 (double helix)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814840" cy="241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6019920" y="43434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Kate</cp:lastModifiedBy>
  <dcterms:modified xsi:type="dcterms:W3CDTF">2012-02-06T00:06:32Z</dcterms:modified>
  <cp:revision>53</cp:revision>
  <dc:subject/>
  <dc:title>DNA Replication</dc:title>
</cp:coreProperties>
</file>